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223-C451-4295-9BB9-4A720492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F48-1CC0-40F6-B273-EF2AE81A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5FF-D5D6-4FC5-82CE-0615A15F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245-43B9-450A-B327-CB621313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9EB-0123-4445-BACA-81CB8772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8EE-6160-4A7A-98A7-925BB7FF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6E1-AA69-4ACE-A05C-6AF6BBD9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AA2-E9CA-4D3A-BB84-E3E32411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4AC-891A-485D-A3E1-0B0F120F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DF1-D76A-4939-9439-799BF218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B1C-7DF2-45E1-AB0A-72AED937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551-B775-41CC-8CE9-550A4483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8127-F810-4A50-B66A-5578CDFF7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009999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99cc00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or Kaitlin Carson 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9984800">
            <a:off x="380880" y="533520"/>
            <a:ext cx="224640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166400">
            <a:off x="6248160" y="609120"/>
            <a:ext cx="2700360" cy="188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124080" y="457200"/>
            <a:ext cx="2667240" cy="174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04920" y="4689360"/>
            <a:ext cx="2666880" cy="190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553080" y="4343400"/>
            <a:ext cx="21830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 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15200" y="1295280"/>
            <a:ext cx="13780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23880" y="472428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200400"/>
            <a:ext cx="138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el desayuno  me gusta comer los gofres y las fres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8288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505320"/>
            <a:ext cx="152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el dasayuno me gusta beber jugo 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ánda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800600"/>
            <a:ext cx="138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el desayuno me gusta come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stel de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733920" y="1219320"/>
            <a:ext cx="2038320" cy="203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33920" y="34290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el desayuno me gusta comer las panqueq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2286000" cy="149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96080" y="5181480"/>
            <a:ext cx="12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el desayuno me gusta comer lo toci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El Amue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133360" cy="151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24080" y="1447920"/>
            <a:ext cx="154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ra el amuerzo me gusta comer los papas fri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15200" y="1447920"/>
            <a:ext cx="13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ra el amuerzo me gusta comer el sándwic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1709640" cy="2000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38280" y="3429000"/>
            <a:ext cx="13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ra el amuerzo me gusta beber chocolate con lech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886200" y="2590920"/>
            <a:ext cx="1933560" cy="2414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5880" y="350532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ra el amuerzo me gusta comer la ensa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238880" y="5181480"/>
            <a:ext cx="1416240" cy="142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05520" y="5334120"/>
            <a:ext cx="17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ara el amuerzo me gusta comer la manz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2514600" cy="1674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00400" y="1447920"/>
            <a:ext cx="138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ra la cena me gusta comer el pollo fri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2314800" cy="1543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467480" y="1295280"/>
            <a:ext cx="123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ra la cena me gusta comer </a:t>
            </a:r>
            <a:r>
              <a:rPr b="0" lang="es-ES" sz="1800" spc="-1" strike="noStrike">
                <a:solidFill>
                  <a:srgbClr val="660066"/>
                </a:solidFill>
                <a:latin typeface="Arial"/>
              </a:rPr>
              <a:t>puré de patatas.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2438280" cy="1620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124080" y="3200400"/>
            <a:ext cx="138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ra la cena me gusta comer las judias ve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5780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315200" y="3200400"/>
            <a:ext cx="113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ra la cena me gusta comer relle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895480" y="4952880"/>
            <a:ext cx="1747800" cy="1752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52880" y="5181480"/>
            <a:ext cx="131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ra la cena me gusta beber un bati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l Po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199692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32280" y="14079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ara el postre me gusta comer el hel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15200" y="1371600"/>
            <a:ext cx="142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ara el postre me gusta comer una tor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14600" y="4343400"/>
            <a:ext cx="1962000" cy="196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00600" y="441972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ara el postre me gusta comer un brow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20:28Z</dcterms:created>
  <dc:creator>carsonkai</dc:creator>
  <dc:description/>
  <dc:language>en-US</dc:language>
  <cp:lastModifiedBy>carsonkai</cp:lastModifiedBy>
  <dcterms:modified xsi:type="dcterms:W3CDTF">2012-04-05T17:15:28Z</dcterms:modified>
  <cp:revision>5</cp:revision>
  <dc:subject/>
  <dc:title>Las Comidas</dc:title>
</cp:coreProperties>
</file>